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3.png" ContentType="image/pn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4105-8DF8-476E-A0C5-EC6BDAF38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EDF6-782A-4F82-9728-02111CC09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884E-9819-44DD-8620-299CA3322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09DE-2AC7-42D9-A272-DFF961C10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A8E55-ED71-498D-8B69-EEE106F5A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34136-4044-4CC8-93C5-3A17CFD93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4FD69-7F2A-4BB5-B391-7D8754B35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6F09C-734F-436E-B073-CB9E4E1B0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4F936-7371-4EB0-86C5-7E95C21DE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0CC85-EBCB-4885-B33D-C6CDDCFAC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73EF9-0A0E-461B-B0E7-D0CF19DA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DFEC-1760-43ED-8C62-39270B0BE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53C1E-52B6-48E1-AFC0-FA577804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11088-6E19-458C-9953-6DBD59B8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ED4A3-A5A2-411B-B8F0-9D9C2DDCC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EB7ED-59F8-440A-AAFF-366799030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3D67A-9563-42ED-A81B-678970E9A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37DA7-2ACD-413A-BD9B-6598A94B3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8CC50-47D2-461E-933C-7D2398014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BAB7A-8E66-4ADA-B70B-113724F8E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35AEC-6288-4845-8C5B-22FD89754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BFAE9-46A2-44FB-8C65-46422A0B3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1489-E86B-44D2-8CDD-1E637FF95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ECCA6-3BEF-4A2F-94BE-C4783772F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8AC8F-DA81-48B6-B576-B4654B44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A28C5-72A8-4038-A1EB-FCB98C40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0AE4B-F8D5-4F87-8A58-7AE6BB5A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0D57B-C2BF-4BF6-96DA-4C281EC95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B36EB-0E7D-495D-8ED6-444E407D2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CF90D-9CA1-47E9-8879-DC6DAB6DA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3B435-F906-41CC-B7E1-BECBD89CB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0DA65-8EEC-4913-BC77-BCAA50AF5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E715A-0B15-49BC-BDC2-7B9C8E30E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789F-5A1E-4E20-9D44-C80027E81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441AE-0A64-4D32-A307-0EB60ACA2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8D283-D9AD-4EDD-9287-EA614EAD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03F4F-B2B5-4ECA-B903-E8187D719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8F164-AC67-4397-A448-2857E180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D7A13-5E39-466C-B95B-17EE844C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3E977-ACA0-4C32-A48A-8BCA0E90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65A60-5703-4190-84AA-8E4A20D67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56487-8F1B-4207-B9C5-E1F1AEDCC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08946-E481-475D-9B06-4C8FC0E76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B346-4D19-41EB-B053-1DE7CD813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7A42-9AAA-4A5D-818A-655B897C8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24A1-83B4-475E-BE08-96F98F33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4C6F-E0BF-4A2F-B0AD-77E41C61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9BE0-53A7-4EB7-AB4F-AD5E6CBD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F3680-D4BC-4011-BF43-CBA2D4E23942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FD33C-4DFD-4FBB-927B-610AFD244FAF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45761-4CE7-43CF-BC75-65F46C0CF01C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AE8E6-7AE9-4B54-A79E-75EDEA0483BC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1 CuadroTexto" descr=""/>
          <p:cNvPicPr/>
          <p:nvPr/>
        </p:nvPicPr>
        <p:blipFill>
          <a:blip r:embed="rId2"/>
          <a:stretch/>
        </p:blipFill>
        <p:spPr>
          <a:xfrm>
            <a:off x="1468440" y="2103480"/>
            <a:ext cx="655956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path" presetID="5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66 0.008 -0.115 0.028 -0.115 0.044 C -0.115 0.05867 -0.067 0.06933 -0.003 0.06933 C 0.061 0.06933 0.115 0.05867 0.115 0.044 C 0.115 0.028 0.059 0.024 -0.005 0.03467 C -0.068 0.04667 -0.115 0.06667 -0.115 0.08133 C -0.115 0.096 -0.066 0.108 -0.003 0.108 C 0.061 0.108 0.115 0.096 0.115 0.08133 C 0.115 0.06667 0.059 0.06267 -0.004 0.07333 C -0.068 0.084 -0.115 0.104 -0.115 0.11867 C -0.115 0.13467 -0.066 0.14667 -0.002 0.14667 C 0.061 0.14667 0.115 0.13467 0.115 0.11867 C 0.115 0.10533 0.059 0.10133 -0.004 0.11067 C -0.067 0.12133 -0.115 0.14267 -0.115 0.15733 C -0.115 0.172 -0.065 0.184 -0.002 0.184 C 0.063 0.184 0.115 0.172 0.115 0.15733 C 0.115 0.14267 0.06 0.13867 -0.003 0.14933 C -0.066 0.16 -0.115 0.18 -0.115 0.19467 C -0.115 0.21067 -0.065 0.22133 -0.001 0.22133 C 0.063 0.22133 0.115 0.20933 0.115 0.19467 C 0.115 0.18 0.06 0.176 -0.003 0.18667 C -0.066 0.19733 -0.115 0.21867 -0.115 0.232 C -0.115 0.24667 -0.064 0.25867 -0.001 0.25867 C 0.063 0.25867 0.115 0.24667 0.115 0.232 C 0.115 0.21867 0.061 0.21467 -0.003 0.224 C -0.066 0.23467 -0.115 0.256 -0.115 0.27067 C -0.115 0.284 -0.064 0.29733 0 0.29733 C 0.064 0.29733 0.115 0.28533 0.115 0.27067 C 0.115 0.256 0.061 0.252 -0.002 0.26267 C -0.065 0.27333 -0.116 0.29333 -0.115 0.308 C -0.114 0.32267 -0.064 0.33333 0 0.33333 C 0.064 0.33333 0.115 0.32133 0.115 0.30667 C 0.115 0.29333 0.063 0.28933 0 0.30133 E">
                                      <p:cBhvr>
                                        <p:cTn id="14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250" autoRev="1" fill="hold"/>
                                        <p:tgtEl>
                                          <p:spTgt spid="1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" dur="2000" fill="hold"/>
                                        <p:tgtEl>
                                          <p:spTgt spid="1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500"/>
                            </p:stCondLst>
                            <p:childTnLst>
                              <p:par>
                                <p:cTn id="2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755640" y="887400"/>
            <a:ext cx="6197760" cy="41274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2322000" y="5337000"/>
            <a:ext cx="102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1 Título" descr=""/>
          <p:cNvPicPr/>
          <p:nvPr/>
        </p:nvPicPr>
        <p:blipFill>
          <a:blip r:embed="rId2"/>
          <a:stretch/>
        </p:blipFill>
        <p:spPr>
          <a:xfrm>
            <a:off x="450720" y="1352520"/>
            <a:ext cx="832176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7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7000"/>
                            </p:stCondLst>
                            <p:childTnLst>
                              <p:par>
                                <p:cTn id="173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74" dur="5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1547640" y="1376280"/>
            <a:ext cx="5761080" cy="43210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492360" y="5661000"/>
            <a:ext cx="2003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Arial"/>
              </a:rPr>
              <a:t>L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8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5" descr="mice"/>
          <p:cNvPicPr/>
          <p:nvPr/>
        </p:nvPicPr>
        <p:blipFill>
          <a:blip r:embed="rId2"/>
          <a:stretch/>
        </p:blipFill>
        <p:spPr>
          <a:xfrm>
            <a:off x="-528480" y="0"/>
            <a:ext cx="1040436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4 CuadroTexto"/>
          <p:cNvSpPr/>
          <p:nvPr/>
        </p:nvSpPr>
        <p:spPr>
          <a:xfrm>
            <a:off x="0" y="0"/>
            <a:ext cx="1072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s-ES" sz="8000" spc="-1" strike="noStrike">
                <a:solidFill>
                  <a:srgbClr val="ff0000"/>
                </a:solidFill>
                <a:latin typeface="Arial"/>
              </a:rPr>
              <a:t>MOUSE /MIC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1332000" y="884160"/>
            <a:ext cx="7056360" cy="47055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3782160" y="5661000"/>
            <a:ext cx="1957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Arial"/>
              </a:rPr>
              <a:t>du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5" descr="green%20frog%20raulston%20arboretum%2072304"/>
          <p:cNvPicPr/>
          <p:nvPr/>
        </p:nvPicPr>
        <p:blipFill>
          <a:blip r:embed="rId2"/>
          <a:stretch/>
        </p:blipFill>
        <p:spPr>
          <a:xfrm>
            <a:off x="-600120" y="-324000"/>
            <a:ext cx="10344240" cy="7506000"/>
          </a:xfrm>
          <a:prstGeom prst="rect">
            <a:avLst/>
          </a:prstGeom>
          <a:ln w="0">
            <a:noFill/>
          </a:ln>
        </p:spPr>
      </p:pic>
      <p:sp>
        <p:nvSpPr>
          <p:cNvPr id="203" name="4 CuadroTexto"/>
          <p:cNvSpPr/>
          <p:nvPr/>
        </p:nvSpPr>
        <p:spPr>
          <a:xfrm>
            <a:off x="357120" y="5715000"/>
            <a:ext cx="3862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ff0000"/>
                </a:solidFill>
                <a:latin typeface="Arial"/>
              </a:rPr>
              <a:t>FRO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super_squirrel.jpg Super Squirrel image by squirrelmaster88"/>
          <p:cNvPicPr/>
          <p:nvPr/>
        </p:nvPicPr>
        <p:blipFill>
          <a:blip r:embed="rId2"/>
          <a:stretch/>
        </p:blipFill>
        <p:spPr>
          <a:xfrm>
            <a:off x="480960" y="0"/>
            <a:ext cx="575316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6372360" y="4618080"/>
            <a:ext cx="277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Arial"/>
              </a:rPr>
              <a:t>Squirr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1042920" y="307800"/>
            <a:ext cx="6481800" cy="57326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3926880" y="6021360"/>
            <a:ext cx="2090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Arial"/>
              </a:rPr>
              <a:t>Mol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2136600" y="981000"/>
            <a:ext cx="4727880" cy="47530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061440" y="5805360"/>
            <a:ext cx="237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INS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1692360" y="1012680"/>
            <a:ext cx="5070240" cy="42544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835080" y="5481720"/>
            <a:ext cx="111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B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4:25:41Z</dcterms:created>
  <dc:creator>Bj</dc:creator>
  <dc:description/>
  <dc:language>en-US</dc:language>
  <cp:lastModifiedBy>I.E.S. FEDERICO GARCIA LORCA</cp:lastModifiedBy>
  <dcterms:modified xsi:type="dcterms:W3CDTF">2009-03-30T10:54:51Z</dcterms:modified>
  <cp:revision>21</cp:revision>
  <dc:subject/>
  <dc:title>Diapositiva 1</dc:title>
</cp:coreProperties>
</file>